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172-7ED0-4AB1-9346-8102B93B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B06-8A1B-49DA-926D-AEBB24EB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F7A-04A6-4F19-BABE-7459B855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582-ADE1-41BF-9918-80FDA6E2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B69-93ED-436F-B98D-CE0DC27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8DB-2BFE-4E28-98C4-DB79DE8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F4B-9796-449B-9C16-C1AC3052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8A6-CD6E-4268-96CC-3090F5C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D0F-7CBE-4149-8664-246449E4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E65-49A8-4F67-96DF-732F0A5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79B-2ECE-4BF5-8B01-B14821F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5AF-71D1-4D75-9E35-4396545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1E8D-A378-426D-BEC5-E7C807A1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2784600"/>
            <a:ext cx="7000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NTIFIERS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29120"/>
            <a:ext cx="8820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9999"/>
                </a:solidFill>
                <a:latin typeface="Arial"/>
              </a:rPr>
              <a:t>s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c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nombres contables en plural:</a:t>
            </a:r>
            <a:br>
              <a:rPr sz="3200"/>
            </a:b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I've borrowed some books from the library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utiliza también con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There is some milk in the fridge.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utiliza en preguntas cuando esperamos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una respuesta positiv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Por ejemplo, cuando se ofrece comida o bebida:</a:t>
            </a:r>
            <a:br>
              <a:rPr sz="3200"/>
            </a:br>
            <a:r>
              <a:rPr b="0" i="1" lang="es-ES" sz="3200" spc="-1" strike="noStrike">
                <a:solidFill>
                  <a:srgbClr val="333399"/>
                </a:solidFill>
                <a:latin typeface="Arial"/>
              </a:rPr>
              <a:t>Would you like some ice-cream? Yes, please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 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ciones negativas e interrogativ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nto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contables como incon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n't any glasse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there any glasses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isn't any water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 there any water on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much / a lot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tiliza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much pocket money do you get every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inglés hablado 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tiliza solo 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aciones interrogativas y negativ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habla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firmativame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usa </a:t>
            </a:r>
            <a:r>
              <a:rPr b="0" lang="en-US" sz="3200" spc="-1" strike="noStrike">
                <a:solidFill>
                  <a:srgbClr val="808000"/>
                </a:solidFill>
                <a:latin typeface="Arial"/>
              </a:rPr>
              <a:t>a lot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ndalucía exports a lot of olive 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20640"/>
            <a:ext cx="882000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Arial"/>
              </a:rPr>
              <a:t>many / a lo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o se pueden utilizar con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ustantivos contables en plur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Many tourists come to Spain in Sum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cc66"/>
                </a:solidFill>
                <a:latin typeface="Arial"/>
              </a:rPr>
              <a:t>little / a little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o se utilizan con 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sustantivos in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significa poca cantidad. A menudo le acompaña ve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I think you pay (very) little attention to my explanation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cc66"/>
                </a:solidFill>
                <a:latin typeface="Arial"/>
              </a:rPr>
              <a:t>a littl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tiene una connotación positiva, signfica que hay algo aunque sea po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Work a little every day and you'll succeed with your exam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909720"/>
            <a:ext cx="86407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66"/>
                </a:solidFill>
                <a:latin typeface="Arial"/>
              </a:rPr>
              <a:t>few  / a f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utilizan c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stantivos contables en pl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few CD's in the record sh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 que no hay cantidad suficiente, pero si decimos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amos una connotación positiva a la información, es decir, que aunque pocos, hay algu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he has a few friends in her new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9900"/>
                </a:solidFill>
                <a:latin typeface="Arial"/>
              </a:rPr>
              <a:t>¿CUÁNTO/S?</a:t>
            </a:r>
            <a:br>
              <a:rPr sz="4000"/>
            </a:br>
            <a:br>
              <a:rPr sz="4000"/>
            </a:b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NOMBRES INCONT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OMBRES CONTABL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How much 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ow many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9:16Z</dcterms:created>
  <dc:creator>Profesor</dc:creator>
  <dc:description/>
  <dc:language>en-US</dc:language>
  <cp:lastModifiedBy>IESFGL</cp:lastModifiedBy>
  <dcterms:modified xsi:type="dcterms:W3CDTF">2010-04-12T08:52:48Z</dcterms:modified>
  <cp:revision>3</cp:revision>
  <dc:subject/>
  <dc:title>Diapositiva 1</dc:title>
</cp:coreProperties>
</file>